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196-2015-4529-9C83-8C644FE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10D-3FBA-4AC7-8742-B2D81806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857-D8A0-4093-A189-7913355C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051-660B-4F43-86E0-527F7DFD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F58-AF52-4E37-8CD7-2C2F0021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0DD-C3AA-4784-A6F7-4B395D5A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C4C5-FC57-484C-836E-062422AF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FC2E-4968-4C0D-B62C-85A9E46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F122-3C42-4423-BCBD-62B107D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E67-7EF5-4BF4-8CCC-61244B6F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48B-9114-4930-AE11-8D21192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34D2-8BF0-4DD6-A9E0-B8B5908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C78-9871-44B9-84CE-D5DECC0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1BE-A13C-4B55-89AE-8AE5D58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FD91-A4CD-467A-A4BA-2E79D9D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223-1EB6-4E1C-A2D3-59B101B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F5E4-2D9C-4B4B-9942-A60C55F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BEC3-3C88-4E1C-B429-EAFFE4B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8130-A601-401B-8EC1-F23AA0DA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058A-C61C-41F1-BAAC-ED8A3147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D11-8E92-4F13-9F99-E96CF87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9880-1C27-467D-8CAE-03BBECF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86CB-58B2-4FC0-8E6C-85C6E534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B574-5D24-48A2-B73C-669CCF0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8C91-BA7E-4B3D-91F5-6747C45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4724-5C25-4DFA-84F6-64FF8A05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B2BF-E5BB-4756-80D5-377F662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1F12-D305-4940-8E65-187165E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049F-D1BA-4117-A3A5-8E68AE1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DB69-6DCC-41FE-BB2A-234FE36E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41B5-DCDF-4924-91A7-651E9FB2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A12-325E-484E-B1EA-E453D6F1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6EE9-25D1-4AF0-BE06-AE526770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2E26-536E-4E9C-B518-5C81F15F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5008-BE37-41CB-AB03-81EDC461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21E9-1257-426D-BA42-3C5800D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AA8B-E875-4CAB-AA3C-98B5BCF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FFAB-B3A8-48ED-A158-98AC958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8B33-8326-4A3F-9C99-3AF1410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99D2-EBEF-47CB-9B44-A368522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F032-EA28-44BD-99C7-913E59A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50DC-C77A-41E3-9C38-795E092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2BD-504E-490B-ACDE-4936031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D74D-CA06-4C40-9938-5F5F810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82D5-29F4-4634-B963-60A064C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7A00-7E4D-4D0B-A0DE-39D9BBB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3F5-4D31-4CF9-BE38-810FD93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3FB-D4EE-4AA9-BAD9-4AFCD49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2DAFCEF-93BC-408D-A1AD-EDB9F0864BA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81F74F3-CDFB-426A-9BED-F81F39E7401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2E55DFE-14BE-46C9-B1FB-D21DE697512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A177F92-2B3A-4CD6-9529-C4F4988B55E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41360" y="126792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4400" spc="-1" strike="noStrike">
                <a:solidFill>
                  <a:srgbClr val="374c81"/>
                </a:solidFill>
                <a:latin typeface="Century Gothic"/>
              </a:rPr>
              <a:t>Co to za rana?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rcRect l="6606" t="0" r="23427" b="0"/>
          <a:stretch/>
        </p:blipFill>
        <p:spPr>
          <a:xfrm>
            <a:off x="406440" y="2276640"/>
            <a:ext cx="273528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2"/>
          <p:cNvSpPr/>
          <p:nvPr/>
        </p:nvSpPr>
        <p:spPr>
          <a:xfrm>
            <a:off x="155736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1" name="Obraz 1" descr="Plik:Selfinjury.jpg"/>
          <p:cNvPicPr/>
          <p:nvPr/>
        </p:nvPicPr>
        <p:blipFill>
          <a:blip r:embed="rId3"/>
          <a:srcRect l="0" t="0" r="25650" b="0"/>
          <a:stretch/>
        </p:blipFill>
        <p:spPr>
          <a:xfrm>
            <a:off x="3286080" y="2274840"/>
            <a:ext cx="2700360" cy="27288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7"/>
          <p:cNvSpPr/>
          <p:nvPr/>
        </p:nvSpPr>
        <p:spPr>
          <a:xfrm>
            <a:off x="442116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3" name="Obraz 5" descr="http://1.bp.blogspot.com/-dtdwTNol-o4/UC-YqNsLdhI/AAAAAAAAALo/SPz2x9ppqgc/s320/180820121041.jpg"/>
          <p:cNvPicPr/>
          <p:nvPr/>
        </p:nvPicPr>
        <p:blipFill>
          <a:blip r:embed="rId4"/>
          <a:srcRect l="7204" t="0" r="25629" b="0"/>
          <a:stretch/>
        </p:blipFill>
        <p:spPr>
          <a:xfrm>
            <a:off x="6130800" y="2274840"/>
            <a:ext cx="3245040" cy="272880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9"/>
          <p:cNvSpPr/>
          <p:nvPr/>
        </p:nvSpPr>
        <p:spPr>
          <a:xfrm>
            <a:off x="753732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5" name="Obraz 3" descr="http://upload.wikimedia.org/wikipedia/commons/thumb/7/71/Footpuncture.JPG/576px-Footpuncture.JPG"/>
          <p:cNvPicPr/>
          <p:nvPr/>
        </p:nvPicPr>
        <p:blipFill>
          <a:blip r:embed="rId5"/>
          <a:srcRect l="16732" t="0" r="3580" b="29289"/>
          <a:stretch/>
        </p:blipFill>
        <p:spPr>
          <a:xfrm>
            <a:off x="9529920" y="2274840"/>
            <a:ext cx="2325600" cy="273852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11"/>
          <p:cNvSpPr/>
          <p:nvPr/>
        </p:nvSpPr>
        <p:spPr>
          <a:xfrm>
            <a:off x="1047600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846440" y="1773000"/>
            <a:ext cx="9283680" cy="934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31000"/>
          </a:bodyPr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postrzałow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cię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szarpan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kłu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2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